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3E3E-1E45-484F-AB07-54E0D34F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65A7-B1BA-4616-AD82-EBCFC08A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977A-E296-4922-A3D0-F898CC49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483B9-78D9-4496-AD54-D8FC79C6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21D5-0CD8-4BAF-A4F6-029ED003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06B8-E1F6-4959-87FE-A630DDE3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4302-A4AF-47E5-8FE8-0C2BB30C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5A7B-2829-4DB7-BD6C-A282652D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BADE-EA02-48DC-9AB0-F89DFD4E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B9AD-D07F-41A5-A00D-44A01568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B2BC-DBEE-4ABF-9A13-635E1E53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F10A-F4AE-4F6C-9FA1-AF5E8A23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5479-338F-44E5-9235-7E79253F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9DF4-7236-4E21-9CF4-83793DD3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10EB-2D45-4EF4-A6CB-E1718C7C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515A-A30D-40DC-9F15-AB0DD260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3E57-D3B9-4D7D-AB0F-34414DDC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89C3-16CF-4048-86DB-DA806E0E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5583-E848-4719-8B75-CCAA65F6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2C1A-DC8F-42C5-B0C0-F1F61EAF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ACF8-4554-48F1-893C-5CD83E8D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BF68-756C-4260-976B-FCA8FF0C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7A89C-D553-4D23-BE5B-81E8CCE4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1B5A-7CA7-4EEB-B162-2BC2571D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160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9584b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4524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c5b4e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CECD-E2A5-43DB-8A98-F54A31D792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160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9584b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4524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c5b4e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D51C-71EC-4698-B69E-9CA17DE166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3960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1640" y="160020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ececb2"/>
                </a:solidFill>
                <a:latin typeface="Tahoma"/>
              </a:rPr>
              <a:t>Christian Dior</a:t>
            </a:r>
            <a:r>
              <a:rPr b="0" lang="ru-RU" sz="4800" spc="-1" strike="noStrike">
                <a:solidFill>
                  <a:srgbClr val="ececb2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1640" y="3933360"/>
            <a:ext cx="3848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1905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-195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4762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e New Look de Dior a connu un grand succès dans le monde, malgré de nombreux détracteurs, qui reprochaient au couturier de cacher les jambes des femmes. En cette époque d'après-guerre on lui reprochait aussi l'utilisation de trop grandes quantités de tiss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9"/>
          <p:cNvPicPr/>
          <p:nvPr/>
        </p:nvPicPr>
        <p:blipFill>
          <a:blip r:embed="rId1"/>
          <a:stretch/>
        </p:blipFill>
        <p:spPr>
          <a:xfrm>
            <a:off x="4781520" y="549360"/>
            <a:ext cx="42163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6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51280" y="836280"/>
            <a:ext cx="5122800" cy="408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Merci pour votre attention!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53" name="Picture 4" descr="13"/>
          <p:cNvPicPr/>
          <p:nvPr/>
        </p:nvPicPr>
        <p:blipFill>
          <a:blip r:embed="rId1"/>
          <a:stretch/>
        </p:blipFill>
        <p:spPr>
          <a:xfrm>
            <a:off x="468360" y="260280"/>
            <a:ext cx="3483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est un grand couturier français. Il est le fondateur de la Maison de couture qui porte son nom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2"/>
          <p:cNvPicPr/>
          <p:nvPr/>
        </p:nvPicPr>
        <p:blipFill>
          <a:blip r:embed="rId1"/>
          <a:stretch/>
        </p:blipFill>
        <p:spPr>
          <a:xfrm>
            <a:off x="4381560" y="476280"/>
            <a:ext cx="476244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859280" y="620640"/>
            <a:ext cx="428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1928, Christian a créé une galerie d'art où les œuvres ont été exposées par Derain, Matisse, Picasso. Mais après la mort de ses parents il était obligé de fermer sa galérie qui a été financié par son père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1"/>
          <p:cNvPicPr/>
          <p:nvPr/>
        </p:nvPicPr>
        <p:blipFill>
          <a:blip r:embed="rId1"/>
          <a:stretch/>
        </p:blipFill>
        <p:spPr>
          <a:xfrm>
            <a:off x="179280" y="1628640"/>
            <a:ext cx="48024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788000" y="2610000"/>
            <a:ext cx="435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'était à ce moment qu'il a commencé à vendre ses esquisses 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chapeaux et des robes, imprimées dans le magazine Le Figaro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8" descr="12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478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1938, il a été repéré par un célèbre couturier Robert Piguet, mais la guerre 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n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Dior a été mobilisé. Mais bi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ôt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il est revenu à Paris et a commencé  à travailler pour la célèbre Maison de couture de Lelong Lucien.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4"/>
          <p:cNvPicPr/>
          <p:nvPr/>
        </p:nvPicPr>
        <p:blipFill>
          <a:blip r:embed="rId1"/>
          <a:stretch/>
        </p:blipFill>
        <p:spPr>
          <a:xfrm>
            <a:off x="4699080" y="260280"/>
            <a:ext cx="44449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330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1942, Christian a créé un laboratoire de parfum. Pour lui, « le parfum est le complément indispensable de la personnalité féminine, c’est la touche finale d'une robe. »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16"/>
          <p:cNvPicPr/>
          <p:nvPr/>
        </p:nvPicPr>
        <p:blipFill>
          <a:blip r:embed="rId1"/>
          <a:stretch/>
        </p:blipFill>
        <p:spPr>
          <a:xfrm>
            <a:off x="4932360" y="189000"/>
            <a:ext cx="3389400" cy="187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7"/>
          <p:cNvPicPr/>
          <p:nvPr/>
        </p:nvPicPr>
        <p:blipFill>
          <a:blip r:embed="rId2"/>
          <a:stretch/>
        </p:blipFill>
        <p:spPr>
          <a:xfrm>
            <a:off x="6108840" y="2205000"/>
            <a:ext cx="3035160" cy="324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18"/>
          <p:cNvPicPr/>
          <p:nvPr/>
        </p:nvPicPr>
        <p:blipFill>
          <a:blip r:embed="rId3"/>
          <a:stretch/>
        </p:blipFill>
        <p:spPr>
          <a:xfrm>
            <a:off x="4356000" y="494172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3178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près la guerre, en 1946, il a fondu sa propre maison de mode.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4067280" y="2205000"/>
            <a:ext cx="4809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71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ans sa première collection de 1947, Dior a créé un concept entièrement nouveau de New Look. Il s'agissait d'une "ligne romantique": taille cintrée, poitrine haute et ronde, épaules étroites, jambes découvertes jusqu’à 30 cm au-dessus du so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8"/>
          <p:cNvPicPr/>
          <p:nvPr/>
        </p:nvPicPr>
        <p:blipFill>
          <a:blip r:embed="rId1"/>
          <a:stretch/>
        </p:blipFill>
        <p:spPr>
          <a:xfrm>
            <a:off x="5003640" y="476280"/>
            <a:ext cx="36324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50515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ar cette silhouette, il a apporté sa propre idée de la féminité, qui fait tellement défaut à l'époque de la guerre, avec ses uniformes et le «service du travail" pour les femm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11"/>
          <p:cNvPicPr/>
          <p:nvPr/>
        </p:nvPicPr>
        <p:blipFill>
          <a:blip r:embed="rId1"/>
          <a:stretch/>
        </p:blipFill>
        <p:spPr>
          <a:xfrm>
            <a:off x="4932360" y="1773360"/>
            <a:ext cx="42116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06:10:34Z</dcterms:created>
  <dc:creator>User_09</dc:creator>
  <dc:description/>
  <dc:language>en-US</dc:language>
  <cp:lastModifiedBy>Василий</cp:lastModifiedBy>
  <dcterms:modified xsi:type="dcterms:W3CDTF">2012-06-06T16:10:15Z</dcterms:modified>
  <cp:revision>3</cp:revision>
  <dc:subject/>
  <dc:title>Christian Dior </dc:title>
</cp:coreProperties>
</file>